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2A4-71C4-4C62-A7F3-11D7F213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6E7-0ACB-45FD-BD4E-47B04F05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0EA-CD1E-4D6A-B267-7EB72005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DF9-7727-4AB3-B64E-DAEACBBE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692-802D-426B-9C54-89A25347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945-24F6-42E1-868B-AE746EE8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F11-D077-45FC-8CB5-4568CB8A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9AB-EBDE-4028-B049-B58DC8C2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CA2-CFA7-4B7F-8CC4-5A0C6EE0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E86-50D3-4944-8F6A-90491145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B066-ED78-44D5-A9CA-1095FC89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D50-ED7A-40D7-930E-E742A7C2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5F96-49A0-4A0C-B940-D583AA6A4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8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7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15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¿Tienes una casa o un apartamen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v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s una familia grande o pequeñ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os años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tu mejor amigo, ¿Cuántos años ti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n Uds. una masco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067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"/>
              </a:rPr>
              <a:t>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en oraciones comp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una familia grande o pequeñ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hermanos t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años tienen ell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Y cuántos años tienes t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n ustedes un perro o un ga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¿Tiene tu padre o tu madre un car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En la escuela, ¿tienes que estudiar muc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. ¿Y tienen que trabajar mucho tus pad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5960" y="22860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leta con el verbo T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amilia Bravo (1)_______ un piso o apartamento en Madrid. Su piso (2)________ seis cuartos. Esta en Salamanca, una zona muy bonita de la ciudad.  Muchas calles en la zona Salamanca (3)_______ los nombres de artistas famosos—la calle Goya, la calle Velazqu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cuatro personas en la familia Bravo. Teresa (4)_________ diecisiete años y su hermano (5)_________ quince años.  Ellos (6)_________ un perro ador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verbo GUSTAR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(to lik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carefully at these sentences using the ver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st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 gusta el jug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 gustan las uv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 gusta el jam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 gustan los po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 gusta el tocin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 gustan los pan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hat you like is SINGULAR,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 gu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hat you like is PLURAL,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 gu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 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las 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el fut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USTAR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(to lik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 gusta(a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 gusta(a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lik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e gusta(a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/he likes, you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s gusta(a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es gusta(a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y like, you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don’t like or someone doesn’t like something, you simply write NO before the prono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No me gusta la p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No me gustan los vege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UNA CENA EN EL RESTA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6:44:27Z</dcterms:created>
  <dc:creator>Helen Zumaeta</dc:creator>
  <dc:description/>
  <dc:language>en-US</dc:language>
  <cp:lastModifiedBy>Helen Zumaeta</cp:lastModifiedBy>
  <dcterms:modified xsi:type="dcterms:W3CDTF">2014-10-07T19:25:31Z</dcterms:modified>
  <cp:revision>17</cp:revision>
  <dc:subject/>
  <dc:title>Slide 1</dc:title>
</cp:coreProperties>
</file>